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1.bin" ContentType="application/vnd.openxmlformats-officedocument.oleObject"/>
  <Override PartName="/ppt/embeddings/oleObject8.bin" ContentType="application/vnd.openxmlformats-officedocument.oleObject"/>
  <Override PartName="/ppt/embeddings/oleObject10.bin" ContentType="application/vnd.openxmlformats-officedocument.oleObject"/>
  <Override PartName="/ppt/embeddings/oleObject7.bin" ContentType="application/vnd.openxmlformats-officedocument.oleObject"/>
  <Override PartName="/ppt/embeddings/oleObject6.bin" ContentType="application/vnd.openxmlformats-officedocument.oleObject"/>
  <Override PartName="/ppt/embeddings/oleObject22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17.bin" ContentType="application/vnd.openxmlformats-officedocument.oleObject"/>
  <Override PartName="/ppt/embeddings/oleObject3.bin" ContentType="application/vnd.openxmlformats-officedocument.oleObject"/>
  <Override PartName="/ppt/embeddings/oleObject5.bin" ContentType="application/vnd.openxmlformats-officedocument.oleObject"/>
  <Override PartName="/ppt/embeddings/oleObject21.bin" ContentType="application/vnd.openxmlformats-officedocument.oleObject"/>
  <Override PartName="/ppt/embeddings/oleObject19.bin" ContentType="application/vnd.openxmlformats-officedocument.oleObject"/>
  <Override PartName="/ppt/embeddings/oleObject18.bin" ContentType="application/vnd.openxmlformats-officedocument.oleObject"/>
  <Override PartName="/ppt/embeddings/oleObject20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9C59-6E07-4C30-8D33-15C773EBA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0000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C5AC-1FEE-4805-B963-B01533BF9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8268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7AD0-B101-4640-B2CE-896C1D748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2800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564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0000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2800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564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6E1A-1BC5-4467-90C5-C95CBCB95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8257B-E632-45D1-91F3-1FDCBBC63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0E4A4-CD0B-4EAC-BEE5-BAD208A77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C7016-267C-4FD9-B8B6-0ED154F64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97B89-765C-4D6D-908B-9B7BA40B3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CFAFF-19F9-4D41-9A5D-ABA56F441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AFED5-385F-4A3D-AFD8-F189F5154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17F86-0A72-4E6B-A3E7-A3D897405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E178-9DC7-4D5F-BF2B-7F071298B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88268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56A3B-1094-4362-8436-69F96A81D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E28DF-8C5A-47C2-9D68-4A7B329E1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0000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55307-30BA-49ED-94C6-1F3874855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88268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F66F5-E9B5-4608-9B9B-CC575A618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2800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5564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0000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2800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5564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06499-6031-40BE-87CF-039FB8199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E572-1596-405F-B3AE-0F0BBF55A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FC9E-2A6B-4C5A-9718-2E84627C6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8E23-C550-4ADB-BD02-1B1166F4D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8B5E-5061-43AC-9000-A7E0F5508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65E5-7F66-4A87-9E95-4DFD1C1FA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8268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F533-B4D5-4E20-B691-25BD12C77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A329-EDAD-42F8-A25E-D9E9F57D6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609480" cy="48769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D2DB0-F512-46C2-98FA-00319F5E8870}" type="slidenum">
              <a:rPr b="0" lang="pl-P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 txBox="1"/>
          <p:nvPr/>
        </p:nvSpPr>
        <p:spPr>
          <a:xfrm rot="5400000">
            <a:off x="-1981080" y="2276280"/>
            <a:ext cx="4608360" cy="287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e1"/>
                </a:solidFill>
                <a:latin typeface="Calibri"/>
              </a:rPr>
              <a:t>FIGURY GEOMETRYCZN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e1"/>
              </a:solidFill>
              <a:latin typeface="Calibri"/>
              <a:ea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5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47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1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AA9F6-D21F-4127-8CBD-C1570B66FFBC}" type="slidenum">
              <a:rPr b="0" lang="pl-P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9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0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1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2.wmf"/><Relationship Id="rId2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6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5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4.wmf"/><Relationship Id="rId2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5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4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5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6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7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8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19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20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21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22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23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24.wmf"/><Relationship Id="rId41" Type="http://schemas.openxmlformats.org/officeDocument/2006/relationships/oleObject" Target="../embeddings/oleObject21.bin"/><Relationship Id="rId42" Type="http://schemas.openxmlformats.org/officeDocument/2006/relationships/image" Target="../media/image25.wmf"/><Relationship Id="rId43" Type="http://schemas.openxmlformats.org/officeDocument/2006/relationships/oleObject" Target="../embeddings/oleObject22.bin"/><Relationship Id="rId44" Type="http://schemas.openxmlformats.org/officeDocument/2006/relationships/image" Target="../media/image26.wmf"/><Relationship Id="rId4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285920" y="2168640"/>
            <a:ext cx="7129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Verdana"/>
              </a:rPr>
              <a:t>KĄTY. </a:t>
            </a:r>
            <a:br>
              <a:rPr sz="4000"/>
            </a:br>
            <a:r>
              <a:rPr b="1" lang="en-US" sz="4000" spc="-1" strike="noStrike">
                <a:solidFill>
                  <a:srgbClr val="990033"/>
                </a:solidFill>
                <a:latin typeface="Verdana"/>
              </a:rPr>
              <a:t>RODZAJE KĄTÓW </a:t>
            </a:r>
            <a:br>
              <a:rPr sz="4000"/>
            </a:br>
            <a:r>
              <a:rPr b="1" lang="en-US" sz="4000" spc="-1" strike="noStrike">
                <a:solidFill>
                  <a:srgbClr val="990033"/>
                </a:solidFill>
                <a:latin typeface="Verdana"/>
              </a:rPr>
              <a:t>ZE WZGLĘDU NA POŁOŻEN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27000" y="0"/>
            <a:ext cx="77724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KĄTY PRZYLEGŁ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280" y="86364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924360" y="5870520"/>
            <a:ext cx="19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| + |</a:t>
            </a: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| = 180</a:t>
            </a: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295280" y="1160640"/>
            <a:ext cx="7128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rysujmy na prostej n kąt </a:t>
            </a:r>
            <a:r>
              <a:rPr b="1" lang="en-US" sz="1400" spc="-1" strike="noStrike">
                <a:solidFill>
                  <a:srgbClr val="6600ff"/>
                </a:solidFill>
                <a:latin typeface="Arial"/>
              </a:rPr>
              <a:t>półpełn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Jak już zapewne wiesz, jego miara wynosi 180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300320" y="1719360"/>
            <a:ext cx="692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tej samej prostej oznacz dowolny punkt </a:t>
            </a:r>
            <a:r>
              <a:rPr b="1" lang="en-US" sz="1400" spc="-1" strike="noStrike">
                <a:solidFill>
                  <a:srgbClr val="6600ff"/>
                </a:solidFill>
                <a:latin typeface="Arial"/>
              </a:rPr>
              <a:t>A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i narysuj od niego </a:t>
            </a:r>
            <a:r>
              <a:rPr b="1" lang="en-US" sz="1400" spc="-1" strike="noStrike">
                <a:solidFill>
                  <a:srgbClr val="6600ff"/>
                </a:solidFill>
                <a:latin typeface="Arial"/>
              </a:rPr>
              <a:t>półprostą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295280" y="2133720"/>
            <a:ext cx="6877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Łatwo można zauważyć, iż półprosta podzieliła kąt półpełny na </a:t>
            </a:r>
            <a:r>
              <a:rPr b="1" lang="en-US" sz="1400" spc="-1" strike="noStrike">
                <a:solidFill>
                  <a:srgbClr val="6600ff"/>
                </a:solidFill>
                <a:latin typeface="Arial"/>
              </a:rPr>
              <a:t>dwa kąt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(na rysunku oznaczone literami greckiego alfabetu - </a:t>
            </a:r>
            <a:r>
              <a:rPr b="1" lang="en-US" sz="1400" spc="-1" strike="noStrike">
                <a:solidFill>
                  <a:srgbClr val="6600ff"/>
                </a:solidFill>
                <a:latin typeface="Symbol"/>
                <a:ea typeface="Symbol"/>
              </a:rPr>
              <a:t>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1" lang="en-US" sz="1400" spc="-1" strike="noStrike">
                <a:solidFill>
                  <a:srgbClr val="6600ff"/>
                </a:solidFill>
                <a:latin typeface="Symbol"/>
                <a:ea typeface="Symbol"/>
              </a:rPr>
              <a:t>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332000" y="5159520"/>
            <a:ext cx="7272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kie typy kątów nazywamy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przyległymi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i mówimy, że kąt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jest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przyległ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do kąta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lub na odwrót – kąt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jest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przyległ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do kąta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Między tymi kątami zawsze zachodzi związek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3132000" y="4525920"/>
          <a:ext cx="3600720" cy="5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32000" y="4525920"/>
                    <a:ext cx="3600720" cy="5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4840200" y="4487760"/>
          <a:ext cx="127080" cy="128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40200" y="4487760"/>
                    <a:ext cx="127080" cy="12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4716360" y="454500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859280" y="2825640"/>
          <a:ext cx="1117800" cy="1755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59280" y="2825640"/>
                    <a:ext cx="1117800" cy="175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4605480" y="4255920"/>
          <a:ext cx="614160" cy="325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605480" y="4255920"/>
                    <a:ext cx="614160" cy="32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5003640" y="4329000"/>
          <a:ext cx="123840" cy="235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003640" y="4329000"/>
                    <a:ext cx="123840" cy="23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4788000" y="4292640"/>
          <a:ext cx="112680" cy="2350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788000" y="4292640"/>
                    <a:ext cx="112680" cy="23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>
            <a:off x="6443640" y="4311720"/>
            <a:ext cx="3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9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27000" y="0"/>
            <a:ext cx="77724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KĄTY WIERZCHOŁKOW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46280" y="86364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56000" y="5870520"/>
            <a:ext cx="19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| = |</a:t>
            </a: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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|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295280" y="1160640"/>
            <a:ext cx="7128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Jesteś już zaznajomiony z kątami przyległymi, aby zapoznać się z kolejnym rodzajem kątów wykorzystajmy poprzedni rysunek, obrazujący kąty przyległ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295280" y="1687680"/>
            <a:ext cx="6921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zedłuż półprostą o początku w punkcie A i oznacz powstałą w ten sposób </a:t>
            </a:r>
            <a:r>
              <a:rPr b="1" lang="en-US" sz="1400" spc="-1" strike="noStrike">
                <a:solidFill>
                  <a:srgbClr val="6600ff"/>
                </a:solidFill>
                <a:latin typeface="Arial"/>
              </a:rPr>
              <a:t>prostą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295280" y="2205000"/>
            <a:ext cx="7056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 ten sposób dwie </a:t>
            </a:r>
            <a:r>
              <a:rPr b="1" lang="en-US" sz="1400" spc="-1" strike="noStrike">
                <a:solidFill>
                  <a:srgbClr val="6600ff"/>
                </a:solidFill>
                <a:latin typeface="Arial"/>
              </a:rPr>
              <a:t>pros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 przecinające się w punkcie A, stworzyły 4 kąty. Jak można dostrzec, kąty leżące na </a:t>
            </a:r>
            <a:r>
              <a:rPr b="1" lang="en-US" sz="1400" spc="-1" strike="noStrike">
                <a:solidFill>
                  <a:srgbClr val="6600ff"/>
                </a:solidFill>
                <a:latin typeface="Arial"/>
              </a:rPr>
              <a:t>przeciwległych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wierzchołkach mają </a:t>
            </a: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rów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miar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332000" y="5159520"/>
            <a:ext cx="7272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kie typy kątów nazywamy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wierzchołkowymi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Aby lepiej je sobie zobrazować zauważ, iż kąty wierzchołkowe to </a:t>
            </a:r>
            <a:r>
              <a:rPr b="1" lang="en-US" sz="1400" spc="-1" strike="noStrike">
                <a:solidFill>
                  <a:srgbClr val="6600ff"/>
                </a:solidFill>
                <a:latin typeface="Arial"/>
              </a:rPr>
              <a:t>dwie pary kątów przyległych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 z tą różnicą, że zamiast półprostej (ograniczonej punktem A) mamy prostą k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3059280" y="3984480"/>
          <a:ext cx="3600360" cy="5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59280" y="3984480"/>
                    <a:ext cx="3600360" cy="5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4767120" y="3946680"/>
          <a:ext cx="127080" cy="128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67120" y="3946680"/>
                    <a:ext cx="127080" cy="12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"/>
          <p:cNvSpPr/>
          <p:nvPr/>
        </p:nvSpPr>
        <p:spPr>
          <a:xfrm>
            <a:off x="5688000" y="429264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4532400" y="3716280"/>
          <a:ext cx="614160" cy="325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32400" y="3716280"/>
                    <a:ext cx="614160" cy="32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4932360" y="3789360"/>
          <a:ext cx="123840" cy="235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932360" y="3789360"/>
                    <a:ext cx="123840" cy="23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4680000" y="3789360"/>
          <a:ext cx="112680" cy="235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680000" y="3789360"/>
                    <a:ext cx="112680" cy="23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>
            <a:off x="6370560" y="3772080"/>
            <a:ext cx="3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356000" y="6230880"/>
            <a:ext cx="19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| = |</a:t>
            </a: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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|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4824360" y="3143160"/>
          <a:ext cx="560520" cy="862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824360" y="3143160"/>
                    <a:ext cx="560520" cy="86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4299120" y="3968640"/>
          <a:ext cx="560160" cy="8622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299120" y="3968640"/>
                    <a:ext cx="560160" cy="86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"/>
          <p:cNvGraphicFramePr/>
          <p:nvPr/>
        </p:nvGraphicFramePr>
        <p:xfrm>
          <a:off x="4535640" y="4005360"/>
          <a:ext cx="614160" cy="3254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535640" y="4005360"/>
                    <a:ext cx="614160" cy="32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"/>
          <p:cNvGraphicFramePr/>
          <p:nvPr/>
        </p:nvGraphicFramePr>
        <p:xfrm>
          <a:off x="4570560" y="3997440"/>
          <a:ext cx="757080" cy="5112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570560" y="3997440"/>
                    <a:ext cx="757080" cy="5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4319640" y="3473280"/>
          <a:ext cx="792000" cy="5684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319640" y="3473280"/>
                    <a:ext cx="792000" cy="56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4863960" y="4057560"/>
          <a:ext cx="103320" cy="2350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4863960" y="4057560"/>
                    <a:ext cx="103320" cy="23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4626000" y="3968640"/>
          <a:ext cx="90360" cy="23508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4626000" y="3968640"/>
                    <a:ext cx="90360" cy="23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"/>
          <p:cNvSpPr/>
          <p:nvPr/>
        </p:nvSpPr>
        <p:spPr>
          <a:xfrm>
            <a:off x="5111640" y="3033720"/>
            <a:ext cx="3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 flipV="1">
            <a:off x="4896000" y="4041720"/>
            <a:ext cx="792000" cy="3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9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9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9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927000" y="0"/>
            <a:ext cx="77724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KĄTY ODPOWIADAJĄC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46280" y="87300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295280" y="1160640"/>
            <a:ext cx="712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znając następne rodzaje kątów, skorzystamy z rysunku kątów przyległy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295280" y="1503360"/>
            <a:ext cx="6921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orysuj prostą </a:t>
            </a: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równoległą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do prostej n (oznaczmy ją literą „m”), a półprostą przekształć w prostą 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295280" y="2023920"/>
            <a:ext cx="70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unkt przecięcia prostej m i prostej k oznaczmy literą „B”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332000" y="5362560"/>
            <a:ext cx="7272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kie typy kątów nazywamy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odpowiadającymi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Pamiętaj, aby kąty można było nazwać odpowiadającymi, dwie proste (w naszym przypadku m i n) </a:t>
            </a: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MUSZĄ być równoległ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!!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295280" y="2349360"/>
            <a:ext cx="7056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Jak łatwo możemy zauważyć z rysunku, kąty powstałe w wyniku przecięcia się prostych n i k w punkcie A mają taką samą miarę, co kąty powstałe w wyniku przecięcia się prostej m z prostą k w punkcie B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3276720" y="4686480"/>
          <a:ext cx="2376360" cy="5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4686480"/>
                    <a:ext cx="2376360" cy="5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"/>
          <p:cNvGraphicFramePr/>
          <p:nvPr/>
        </p:nvGraphicFramePr>
        <p:xfrm>
          <a:off x="4157640" y="4648320"/>
          <a:ext cx="127080" cy="128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57640" y="4648320"/>
                    <a:ext cx="127080" cy="12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"/>
          <p:cNvSpPr/>
          <p:nvPr/>
        </p:nvSpPr>
        <p:spPr>
          <a:xfrm>
            <a:off x="4105440" y="4699080"/>
            <a:ext cx="46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4429080" y="3589200"/>
          <a:ext cx="614520" cy="325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29080" y="3589200"/>
                    <a:ext cx="614520" cy="32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321080" y="4489560"/>
          <a:ext cx="123840" cy="234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321080" y="4489560"/>
                    <a:ext cx="123840" cy="23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4068720" y="4470480"/>
          <a:ext cx="112680" cy="234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068720" y="4470480"/>
                    <a:ext cx="112680" cy="23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" name=""/>
          <p:cNvSpPr/>
          <p:nvPr/>
        </p:nvSpPr>
        <p:spPr>
          <a:xfrm>
            <a:off x="5402160" y="4473720"/>
            <a:ext cx="3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3276720" y="3876840"/>
          <a:ext cx="2376360" cy="554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276720" y="3876840"/>
                    <a:ext cx="2376360" cy="5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213080" y="3336840"/>
          <a:ext cx="889200" cy="13874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213080" y="3336840"/>
                    <a:ext cx="889200" cy="13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7" name=""/>
          <p:cNvGraphicFramePr/>
          <p:nvPr/>
        </p:nvGraphicFramePr>
        <p:xfrm>
          <a:off x="4573440" y="3660840"/>
          <a:ext cx="113040" cy="2347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573440" y="3660840"/>
                    <a:ext cx="113040" cy="23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4826160" y="3678120"/>
          <a:ext cx="123840" cy="2350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826160" y="3678120"/>
                    <a:ext cx="123840" cy="23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3925800" y="4416480"/>
          <a:ext cx="614520" cy="3254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925800" y="4416480"/>
                    <a:ext cx="614520" cy="32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"/>
          <p:cNvGraphicFramePr/>
          <p:nvPr/>
        </p:nvGraphicFramePr>
        <p:xfrm>
          <a:off x="4662360" y="3841920"/>
          <a:ext cx="127080" cy="1285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4662360" y="3841920"/>
                    <a:ext cx="127080" cy="12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" name=""/>
          <p:cNvGraphicFramePr/>
          <p:nvPr/>
        </p:nvGraphicFramePr>
        <p:xfrm>
          <a:off x="3889440" y="4705200"/>
          <a:ext cx="349200" cy="5241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3889440" y="4705200"/>
                    <a:ext cx="349200" cy="5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"/>
          <p:cNvSpPr/>
          <p:nvPr/>
        </p:nvSpPr>
        <p:spPr>
          <a:xfrm>
            <a:off x="4645080" y="3876840"/>
            <a:ext cx="4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365800" y="3664080"/>
            <a:ext cx="3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904000" y="386064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m ||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859280" y="3176640"/>
            <a:ext cx="3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9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9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927000" y="0"/>
            <a:ext cx="77724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KĄTY NAPRZEMIANLEGŁ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46280" y="87300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052640"/>
            <a:ext cx="712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zy tym rodzaju kątów skorzystamy z rysunku kątów odpowiadającyc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295280" y="1376280"/>
            <a:ext cx="6921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orysuj kąty </a:t>
            </a:r>
            <a:r>
              <a:rPr b="1" lang="en-US" sz="1400" spc="-1" strike="noStrike">
                <a:solidFill>
                  <a:srgbClr val="6600ff"/>
                </a:solidFill>
                <a:latin typeface="Arial"/>
              </a:rPr>
              <a:t>wierzchołkow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do tych, które już są oznaczone na rysunk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295280" y="1700280"/>
            <a:ext cx="7056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Zauważ, że kąty </a:t>
            </a:r>
            <a:r>
              <a:rPr b="1" lang="en-US" sz="1400" spc="-1" strike="noStrike">
                <a:solidFill>
                  <a:srgbClr val="6600ff"/>
                </a:solidFill>
                <a:latin typeface="Symbol"/>
                <a:ea typeface="Symbol"/>
              </a:rPr>
              <a:t>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1" lang="en-US" sz="1400" spc="-1" strike="noStrike">
                <a:solidFill>
                  <a:srgbClr val="6600ff"/>
                </a:solidFill>
                <a:latin typeface="Symbol"/>
                <a:ea typeface="Symbol"/>
              </a:rPr>
              <a:t>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 które zostały dorysowane są zarówno wierzchołkowe, jak i odpowiadające, więc kąt</a:t>
            </a: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 leżący na prostej n ma taką samą miarę jak kąt </a:t>
            </a:r>
            <a:r>
              <a:rPr b="1" lang="en-US" sz="1400" spc="-1" strike="noStrike">
                <a:solidFill>
                  <a:srgbClr val="ff3300"/>
                </a:solidFill>
                <a:latin typeface="Symbol"/>
                <a:ea typeface="Symbol"/>
              </a:rPr>
              <a:t>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 leżący na prostej m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32000" y="5362560"/>
            <a:ext cx="7272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kie typy kątów nazywamy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naprzemianległymi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Pamiętaj, aby kąty można było nazwać naprzemianległymi, dwie proste (w naszym przypadku m i n) </a:t>
            </a: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MUSZĄ być równoległ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!!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3276720" y="4686480"/>
          <a:ext cx="2376360" cy="5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4686480"/>
                    <a:ext cx="2376360" cy="5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0" name=""/>
          <p:cNvGraphicFramePr/>
          <p:nvPr/>
        </p:nvGraphicFramePr>
        <p:xfrm>
          <a:off x="4157640" y="4648320"/>
          <a:ext cx="127080" cy="128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57640" y="4648320"/>
                    <a:ext cx="127080" cy="12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2" name=""/>
          <p:cNvSpPr/>
          <p:nvPr/>
        </p:nvSpPr>
        <p:spPr>
          <a:xfrm>
            <a:off x="4680000" y="4724280"/>
            <a:ext cx="4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4321080" y="4489560"/>
          <a:ext cx="123840" cy="234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21080" y="4489560"/>
                    <a:ext cx="123840" cy="23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5" name=""/>
          <p:cNvGraphicFramePr/>
          <p:nvPr/>
        </p:nvGraphicFramePr>
        <p:xfrm>
          <a:off x="4068720" y="4470480"/>
          <a:ext cx="112680" cy="234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068720" y="4470480"/>
                    <a:ext cx="112680" cy="23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7" name=""/>
          <p:cNvSpPr/>
          <p:nvPr/>
        </p:nvSpPr>
        <p:spPr>
          <a:xfrm>
            <a:off x="5402160" y="4473720"/>
            <a:ext cx="3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3276720" y="3876840"/>
          <a:ext cx="2376360" cy="55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276720" y="3876840"/>
                    <a:ext cx="2376360" cy="5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"/>
          <p:cNvGraphicFramePr/>
          <p:nvPr/>
        </p:nvGraphicFramePr>
        <p:xfrm>
          <a:off x="4211640" y="3336840"/>
          <a:ext cx="888840" cy="13874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211640" y="3336840"/>
                    <a:ext cx="888840" cy="13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2" name=""/>
          <p:cNvGraphicFramePr/>
          <p:nvPr/>
        </p:nvGraphicFramePr>
        <p:xfrm>
          <a:off x="4573440" y="3660840"/>
          <a:ext cx="113040" cy="2347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573440" y="3660840"/>
                    <a:ext cx="113040" cy="23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4826160" y="3678120"/>
          <a:ext cx="123840" cy="2350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826160" y="3678120"/>
                    <a:ext cx="123840" cy="23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6" name=""/>
          <p:cNvGraphicFramePr/>
          <p:nvPr/>
        </p:nvGraphicFramePr>
        <p:xfrm>
          <a:off x="4662360" y="3841920"/>
          <a:ext cx="127080" cy="128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662360" y="3841920"/>
                    <a:ext cx="127080" cy="12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8" name=""/>
          <p:cNvGraphicFramePr/>
          <p:nvPr/>
        </p:nvGraphicFramePr>
        <p:xfrm>
          <a:off x="3889440" y="4705200"/>
          <a:ext cx="349200" cy="5241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889440" y="4705200"/>
                    <a:ext cx="349200" cy="5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"/>
          <p:cNvSpPr/>
          <p:nvPr/>
        </p:nvSpPr>
        <p:spPr>
          <a:xfrm>
            <a:off x="5111640" y="3925800"/>
            <a:ext cx="4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365800" y="3664080"/>
            <a:ext cx="3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904000" y="386064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m ||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859280" y="3176640"/>
            <a:ext cx="3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3710160" y="4689360"/>
          <a:ext cx="393480" cy="4780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3710160" y="4689360"/>
                    <a:ext cx="39348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6" name=""/>
          <p:cNvGraphicFramePr/>
          <p:nvPr/>
        </p:nvGraphicFramePr>
        <p:xfrm>
          <a:off x="4859280" y="3456000"/>
          <a:ext cx="393840" cy="4777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4859280" y="3456000"/>
                    <a:ext cx="393840" cy="47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8" name=""/>
          <p:cNvGraphicFramePr/>
          <p:nvPr/>
        </p:nvGraphicFramePr>
        <p:xfrm>
          <a:off x="3981600" y="4689360"/>
          <a:ext cx="698400" cy="47304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3981600" y="4689360"/>
                    <a:ext cx="698400" cy="4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0" name=""/>
          <p:cNvGraphicFramePr/>
          <p:nvPr/>
        </p:nvGraphicFramePr>
        <p:xfrm>
          <a:off x="4284720" y="3460680"/>
          <a:ext cx="698400" cy="47304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4284720" y="3460680"/>
                    <a:ext cx="698400" cy="4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2" name=""/>
          <p:cNvGraphicFramePr/>
          <p:nvPr/>
        </p:nvGraphicFramePr>
        <p:xfrm>
          <a:off x="4295880" y="3897360"/>
          <a:ext cx="276120" cy="37944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4295880" y="3897360"/>
                    <a:ext cx="27612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4" name=""/>
          <p:cNvGraphicFramePr/>
          <p:nvPr/>
        </p:nvGraphicFramePr>
        <p:xfrm>
          <a:off x="4392720" y="4344840"/>
          <a:ext cx="276120" cy="37944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4392720" y="4344840"/>
                    <a:ext cx="27612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6" name=""/>
          <p:cNvGraphicFramePr/>
          <p:nvPr/>
        </p:nvGraphicFramePr>
        <p:xfrm>
          <a:off x="4535640" y="3897360"/>
          <a:ext cx="588960" cy="39996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4535640" y="3897360"/>
                    <a:ext cx="588960" cy="39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8" name=""/>
          <p:cNvGraphicFramePr/>
          <p:nvPr/>
        </p:nvGraphicFramePr>
        <p:xfrm>
          <a:off x="3851280" y="4324320"/>
          <a:ext cx="588960" cy="39996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3851280" y="4324320"/>
                    <a:ext cx="588960" cy="39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0" name=""/>
          <p:cNvGraphicFramePr/>
          <p:nvPr/>
        </p:nvGraphicFramePr>
        <p:xfrm>
          <a:off x="4552920" y="3841920"/>
          <a:ext cx="90360" cy="23472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4552920" y="3841920"/>
                    <a:ext cx="90360" cy="23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2" name=""/>
          <p:cNvGraphicFramePr/>
          <p:nvPr/>
        </p:nvGraphicFramePr>
        <p:xfrm>
          <a:off x="4032360" y="4670280"/>
          <a:ext cx="90360" cy="23508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4032360" y="4670280"/>
                    <a:ext cx="90360" cy="23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4" name=""/>
          <p:cNvGraphicFramePr/>
          <p:nvPr/>
        </p:nvGraphicFramePr>
        <p:xfrm>
          <a:off x="4788000" y="3933720"/>
          <a:ext cx="102960" cy="235080"/>
        </p:xfrm>
        <a:graphic>
          <a:graphicData uri="http://schemas.openxmlformats.org/presentationml/2006/ole">
            <p:oleObj r:id="rId41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4788000" y="3933720"/>
                    <a:ext cx="102960" cy="23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6" name=""/>
          <p:cNvGraphicFramePr/>
          <p:nvPr/>
        </p:nvGraphicFramePr>
        <p:xfrm>
          <a:off x="4253040" y="4741920"/>
          <a:ext cx="102960" cy="234720"/>
        </p:xfrm>
        <a:graphic>
          <a:graphicData uri="http://schemas.openxmlformats.org/presentationml/2006/ole">
            <p:oleObj r:id="rId43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44"/>
                  <a:stretch/>
                </p:blipFill>
                <p:spPr>
                  <a:xfrm>
                    <a:off x="4253040" y="4741920"/>
                    <a:ext cx="102960" cy="23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"/>
          <p:cNvSpPr/>
          <p:nvPr/>
        </p:nvSpPr>
        <p:spPr>
          <a:xfrm flipH="1" flipV="1">
            <a:off x="4319280" y="4761000"/>
            <a:ext cx="431640" cy="1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H="1" flipV="1">
            <a:off x="4788000" y="3933720"/>
            <a:ext cx="396720" cy="1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295280" y="2457360"/>
            <a:ext cx="6885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dobnie wygląda sytuacja z kątem rozwartym </a:t>
            </a:r>
            <a:r>
              <a:rPr b="1" lang="en-US" sz="1400" spc="-1" strike="noStrike">
                <a:solidFill>
                  <a:srgbClr val="ff3300"/>
                </a:solidFill>
                <a:latin typeface="Symbol"/>
                <a:ea typeface="Symbol"/>
              </a:rPr>
              <a:t>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 także leżącym na prostej n – miara jego kąta będzie taka sama, jak kąta wierzchołkowego do jego kąta odpowiadającego, czyli w naszym przypadku – kąta </a:t>
            </a:r>
            <a:r>
              <a:rPr b="1" lang="en-US" sz="1400" spc="-1" strike="noStrike">
                <a:solidFill>
                  <a:srgbClr val="ff3300"/>
                </a:solidFill>
                <a:latin typeface="Symbol"/>
                <a:ea typeface="Symbol"/>
              </a:rPr>
              <a:t>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Na rysunku widać wszystkie pary takich kątów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1T19:53:09Z</dcterms:created>
  <dc:creator>Darek</dc:creator>
  <dc:description/>
  <dc:language>en-US</dc:language>
  <cp:lastModifiedBy>Darek</cp:lastModifiedBy>
  <dcterms:modified xsi:type="dcterms:W3CDTF">2013-08-17T22:07:11Z</dcterms:modified>
  <cp:revision>25</cp:revision>
  <dc:subject/>
  <dc:title>Slajd 1</dc:title>
</cp:coreProperties>
</file>